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9288-5456-4EEC-8017-BABDE88277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BA11-4BFF-4D1F-A3A3-10B17A0E04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mbed vide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923B-AED3-4C2D-92C7-D995703AB7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3923-4A2C-4A29-92C9-A8EF3B7218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03020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198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136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5604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136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5604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9343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98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341360"/>
            <a:ext cx="6934320" cy="41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Workshop 5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Leader Training, Event Passports,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afety &amp; Risk Assess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42920" y="2491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iscuss the best ways you’ve found to complete your ongoi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eader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ask 1 Outcome – Main The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wanted clarity over what was expected from them and what type of things counted as ongoing learning (see factsheet in web documents list for a good expla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 made to use Training Advisor (TA) to record ongoing learning so that it is not jut ignored and people know what they need to do so it is a formal record and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ader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2 – Discuss the best ways to make completing their wood badge more straightforward for new ESL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680" y="134136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sk 2 Outcomes – Main The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66680" y="1773360"/>
            <a:ext cx="7608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ly identified access to Training Advisor (TA) and contact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1:1 talk to identify training required and explain options for complet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ing from Leaders who have achieved their Wood Ba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projects to new Leaders based on the training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raining courses on both weekday evenings and week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modules across all Districts to reduce trave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ry of training dates attached to your initial training 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gmatic TA’s who can break down the totality into bite sized chu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’s who make it easy e.g. they are the experts and explain exactly what you have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specific Explorer Leader training (how to get young people to obtain/work towards being activity leads etc) only ever a couple of ESL’s on training events – “conversation learning” is very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vent Pass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vent passport sche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– Discuss how you currently use or how you plan to use the event passport scheme to increase the independence of your Explorers within your Units/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1628640"/>
            <a:ext cx="6934320" cy="7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Risk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66680" y="2276640"/>
            <a:ext cx="69343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iscuss in your groups how you go about risk assessments currently and together write a risk assessmen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vent on a Unit night in your H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vent on a Unit night in your H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commercial tri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 activity in a town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aytime activity on a camp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693432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26:03Z</dcterms:created>
  <dc:creator>Office 2004 Test Drive User</dc:creator>
  <dc:description/>
  <dc:language>en-US</dc:language>
  <cp:lastModifiedBy>Hannah Lapworth</cp:lastModifiedBy>
  <dcterms:modified xsi:type="dcterms:W3CDTF">2013-03-04T13:24:04Z</dcterms:modified>
  <cp:revision>139</cp:revision>
  <dc:subject/>
  <dc:title>Your title here</dc:title>
</cp:coreProperties>
</file>